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725400" y="741240"/>
            <a:ext cx="534672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C3AA-CEEC-418D-A0BC-53D3A53E206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EC1B-2D4B-497E-8671-4685F173620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714240" y="74772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4920" y="4706640"/>
            <a:ext cx="4927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E522-ABA8-4007-A57F-D53B4756605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714240" y="74772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4920" y="4706640"/>
            <a:ext cx="4927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AC7E-48EC-403C-A81A-3ACD0AE98C1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714240" y="747720"/>
            <a:ext cx="5380200" cy="3724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4920" y="4706640"/>
            <a:ext cx="4927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ADEF-956D-4E60-AAD1-DA49706C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620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FD7B-24C6-46D3-A4DF-0F36E527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1760" y="620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7E2E-490E-4A37-8EF3-E399989F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1760" y="620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EC9-0531-4493-BC66-C5392802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20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9398-1E63-4357-95AA-3D7D52B6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620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458-DFC7-493A-89F3-ABB53602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620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41F-AC38-4F19-8D2D-A77F4ECE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620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40D5-B884-4CB3-8BDF-754CAB33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1760" y="6202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566-DC74-47E2-8AAA-F40504FC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20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D87-9A40-4B9D-8991-639B6B80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20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354A-F744-4AA8-89B7-9044DAE0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20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9A3-91DA-4E1C-8ED7-2F641C3E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20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1D8C-12A0-45B1-A47E-E1D57A3E38F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141120" y="457200"/>
            <a:ext cx="961236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917280" cy="122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52280" y="6504120"/>
            <a:ext cx="1895760" cy="290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5922360" y="653256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5480" y="63360"/>
            <a:ext cx="4696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(Incident Report) Handling Proc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4743000" y="651996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2/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1600" y="1341360"/>
            <a:ext cx="635040" cy="658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00160" y="620640"/>
            <a:ext cx="9505800" cy="5545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00160" y="981000"/>
            <a:ext cx="950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38400" y="66528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Distributo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44520" y="1052640"/>
            <a:ext cx="100476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R Issu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59" name=""/>
          <p:cNvCxnSpPr>
            <a:stCxn id="58" idx="3"/>
            <a:endCxn id="60" idx="1"/>
          </p:cNvCxnSpPr>
          <p:nvPr/>
        </p:nvCxnSpPr>
        <p:spPr>
          <a:xfrm>
            <a:off x="1349280" y="1161360"/>
            <a:ext cx="248472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2167560" y="66528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83680" y="66528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BCS Tech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496880" y="620640"/>
            <a:ext cx="6624720" cy="5544720"/>
            <a:chOff x="1496880" y="620640"/>
            <a:chExt cx="6624720" cy="5544720"/>
          </a:xfrm>
        </p:grpSpPr>
        <p:sp>
          <p:nvSpPr>
            <p:cNvPr id="64" name=""/>
            <p:cNvSpPr/>
            <p:nvPr/>
          </p:nvSpPr>
          <p:spPr>
            <a:xfrm>
              <a:off x="1496880" y="620640"/>
              <a:ext cx="0" cy="55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24160" y="630000"/>
              <a:ext cx="0" cy="55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57960" y="630000"/>
              <a:ext cx="0" cy="55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21600" y="630000"/>
              <a:ext cx="0" cy="553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472440" y="66528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R &amp; 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8597160" y="66528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Remar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833640" y="1052640"/>
            <a:ext cx="100512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①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R Recei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8146080" y="1052640"/>
            <a:ext cx="156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①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R Registr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: IR Managing Syste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833640" y="1484280"/>
            <a:ext cx="100512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②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R Review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3794040" y="1916280"/>
            <a:ext cx="1079640" cy="431640"/>
          </a:xfrm>
          <a:prstGeom prst="flowChartDecision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l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73" name=""/>
          <p:cNvCxnSpPr>
            <a:stCxn id="71" idx="2"/>
            <a:endCxn id="72" idx="0"/>
          </p:cNvCxnSpPr>
          <p:nvPr/>
        </p:nvCxnSpPr>
        <p:spPr>
          <a:xfrm flipH="1">
            <a:off x="4334040" y="1701720"/>
            <a:ext cx="2520" cy="214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4124520" y="2292480"/>
            <a:ext cx="25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310200" y="18892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N(SVC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76" name=""/>
          <p:cNvCxnSpPr>
            <a:stCxn id="60" idx="2"/>
            <a:endCxn id="71" idx="0"/>
          </p:cNvCxnSpPr>
          <p:nvPr/>
        </p:nvCxnSpPr>
        <p:spPr>
          <a:xfrm>
            <a:off x="4336200" y="1270080"/>
            <a:ext cx="360" cy="214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2" idx="2"/>
            <a:endCxn id="78" idx="0"/>
          </p:cNvCxnSpPr>
          <p:nvPr/>
        </p:nvCxnSpPr>
        <p:spPr>
          <a:xfrm>
            <a:off x="4334040" y="2347920"/>
            <a:ext cx="360" cy="35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3794040" y="2700360"/>
            <a:ext cx="1079640" cy="431640"/>
          </a:xfrm>
          <a:prstGeom prst="flowChartDecision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produ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4647240" y="1889280"/>
            <a:ext cx="88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N(Request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443480" y="3349800"/>
            <a:ext cx="869760" cy="5126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Transfer the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case to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veloper in char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6078600" y="2021040"/>
            <a:ext cx="144756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view about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82" name=""/>
          <p:cNvCxnSpPr>
            <a:stCxn id="72" idx="3"/>
            <a:endCxn id="81" idx="1"/>
          </p:cNvCxnSpPr>
          <p:nvPr/>
        </p:nvCxnSpPr>
        <p:spPr>
          <a:xfrm flipV="1">
            <a:off x="4873680" y="2129760"/>
            <a:ext cx="1205280" cy="2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6262560" y="2565360"/>
            <a:ext cx="1079640" cy="432000"/>
          </a:xfrm>
          <a:prstGeom prst="flowChartDecision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cide t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vel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62120" y="2021040"/>
            <a:ext cx="1461960" cy="22680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view about SV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85" name=""/>
          <p:cNvCxnSpPr>
            <a:stCxn id="72" idx="1"/>
            <a:endCxn id="84" idx="3"/>
          </p:cNvCxnSpPr>
          <p:nvPr/>
        </p:nvCxnSpPr>
        <p:spPr>
          <a:xfrm flipH="1">
            <a:off x="3124080" y="2132280"/>
            <a:ext cx="6703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4" idx="2"/>
            <a:endCxn id="87" idx="0"/>
          </p:cNvCxnSpPr>
          <p:nvPr/>
        </p:nvCxnSpPr>
        <p:spPr>
          <a:xfrm flipH="1">
            <a:off x="2363760" y="2247840"/>
            <a:ext cx="29880" cy="317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1568520" y="2565360"/>
            <a:ext cx="1590480" cy="503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H/W Problem hand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8113680" y="2565360"/>
            <a:ext cx="135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fer to Attach. 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816520" y="3327480"/>
            <a:ext cx="860400" cy="35856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Write the reas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for Re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8114040" y="334980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④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fer to Attach. 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91" name=""/>
          <p:cNvCxnSpPr>
            <a:stCxn id="81" idx="2"/>
            <a:endCxn id="83" idx="0"/>
          </p:cNvCxnSpPr>
          <p:nvPr/>
        </p:nvCxnSpPr>
        <p:spPr>
          <a:xfrm>
            <a:off x="6802560" y="2238480"/>
            <a:ext cx="360" cy="32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5818320" y="4149720"/>
            <a:ext cx="863640" cy="35892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end why it is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j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010920" y="2781360"/>
            <a:ext cx="2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7331400" y="2781360"/>
            <a:ext cx="25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3271680" y="3349800"/>
            <a:ext cx="1016280" cy="50292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④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ata Req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6919920" y="3327480"/>
            <a:ext cx="860400" cy="35856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et up “Plan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to devel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448160" y="5229360"/>
            <a:ext cx="86508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lu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44520" y="5229360"/>
            <a:ext cx="93672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R Fix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344520" y="5803920"/>
            <a:ext cx="93672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Close Confir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871800" y="5803920"/>
            <a:ext cx="936720" cy="2174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R Clos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01" name=""/>
          <p:cNvCxnSpPr>
            <a:stCxn id="97" idx="1"/>
            <a:endCxn id="98" idx="3"/>
          </p:cNvCxnSpPr>
          <p:nvPr/>
        </p:nvCxnSpPr>
        <p:spPr>
          <a:xfrm flipH="1">
            <a:off x="1281240" y="5338080"/>
            <a:ext cx="316728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9" idx="3"/>
            <a:endCxn id="100" idx="2"/>
          </p:cNvCxnSpPr>
          <p:nvPr/>
        </p:nvCxnSpPr>
        <p:spPr>
          <a:xfrm>
            <a:off x="1281240" y="5912640"/>
            <a:ext cx="259092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8" idx="2"/>
            <a:endCxn id="99" idx="0"/>
          </p:cNvCxnSpPr>
          <p:nvPr/>
        </p:nvCxnSpPr>
        <p:spPr>
          <a:xfrm>
            <a:off x="812880" y="5446800"/>
            <a:ext cx="360" cy="357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78" idx="1"/>
            <a:endCxn id="95" idx="0"/>
          </p:cNvCxnSpPr>
          <p:nvPr/>
        </p:nvCxnSpPr>
        <p:spPr>
          <a:xfrm flipH="1">
            <a:off x="3780000" y="2916360"/>
            <a:ext cx="14400" cy="433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78" idx="3"/>
            <a:endCxn id="80" idx="0"/>
          </p:cNvCxnSpPr>
          <p:nvPr/>
        </p:nvCxnSpPr>
        <p:spPr>
          <a:xfrm>
            <a:off x="4873680" y="2916360"/>
            <a:ext cx="5040" cy="433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6921360" y="4149720"/>
            <a:ext cx="863640" cy="35892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the schedu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262560" y="5229360"/>
            <a:ext cx="1079640" cy="431640"/>
          </a:xfrm>
          <a:prstGeom prst="flowChartDecision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08" name=""/>
          <p:cNvCxnSpPr>
            <a:stCxn id="107" idx="2"/>
            <a:endCxn id="100" idx="6"/>
          </p:cNvCxnSpPr>
          <p:nvPr/>
        </p:nvCxnSpPr>
        <p:spPr>
          <a:xfrm rot="5400000">
            <a:off x="5679360" y="4789800"/>
            <a:ext cx="252000" cy="19944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2" idx="2"/>
            <a:endCxn id="107" idx="0"/>
          </p:cNvCxnSpPr>
          <p:nvPr/>
        </p:nvCxnSpPr>
        <p:spPr>
          <a:xfrm flipH="1" rot="16200000">
            <a:off x="6166080" y="4592880"/>
            <a:ext cx="721080" cy="552600"/>
          </a:xfrm>
          <a:prstGeom prst="bentConnector3">
            <a:avLst>
              <a:gd name="adj1" fmla="val 4995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6" idx="2"/>
            <a:endCxn id="107" idx="0"/>
          </p:cNvCxnSpPr>
          <p:nvPr/>
        </p:nvCxnSpPr>
        <p:spPr>
          <a:xfrm rot="5400000">
            <a:off x="6717600" y="4593600"/>
            <a:ext cx="721080" cy="551160"/>
          </a:xfrm>
          <a:prstGeom prst="bentConnector3">
            <a:avLst>
              <a:gd name="adj1" fmla="val 4995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7" idx="1"/>
            <a:endCxn id="89" idx="1"/>
          </p:cNvCxnSpPr>
          <p:nvPr/>
        </p:nvCxnSpPr>
        <p:spPr>
          <a:xfrm rot="10800000">
            <a:off x="5816160" y="3506400"/>
            <a:ext cx="446400" cy="1938960"/>
          </a:xfrm>
          <a:prstGeom prst="bentConnector3">
            <a:avLst>
              <a:gd name="adj1" fmla="val 16521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83" idx="1"/>
            <a:endCxn id="89" idx="0"/>
          </p:cNvCxnSpPr>
          <p:nvPr/>
        </p:nvCxnSpPr>
        <p:spPr>
          <a:xfrm flipH="1">
            <a:off x="6246720" y="2781360"/>
            <a:ext cx="16200" cy="546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83" idx="3"/>
            <a:endCxn id="96" idx="0"/>
          </p:cNvCxnSpPr>
          <p:nvPr/>
        </p:nvCxnSpPr>
        <p:spPr>
          <a:xfrm>
            <a:off x="7342200" y="2781360"/>
            <a:ext cx="8280" cy="546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89" idx="2"/>
            <a:endCxn id="92" idx="0"/>
          </p:cNvCxnSpPr>
          <p:nvPr/>
        </p:nvCxnSpPr>
        <p:spPr>
          <a:xfrm>
            <a:off x="6246720" y="3686040"/>
            <a:ext cx="3960" cy="464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96" idx="2"/>
            <a:endCxn id="106" idx="0"/>
          </p:cNvCxnSpPr>
          <p:nvPr/>
        </p:nvCxnSpPr>
        <p:spPr>
          <a:xfrm>
            <a:off x="7350120" y="3686040"/>
            <a:ext cx="3600" cy="464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7" idx="3"/>
            <a:endCxn id="96" idx="3"/>
          </p:cNvCxnSpPr>
          <p:nvPr/>
        </p:nvCxnSpPr>
        <p:spPr>
          <a:xfrm flipV="1">
            <a:off x="7342200" y="3506760"/>
            <a:ext cx="438480" cy="1938960"/>
          </a:xfrm>
          <a:prstGeom prst="bentConnector3">
            <a:avLst>
              <a:gd name="adj1" fmla="val 15406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6755040" y="5622840"/>
            <a:ext cx="25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103080" y="5229360"/>
            <a:ext cx="2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7211160" y="5229360"/>
            <a:ext cx="2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3534480" y="2843280"/>
            <a:ext cx="2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4854960" y="2843280"/>
            <a:ext cx="25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4443480" y="4284720"/>
            <a:ext cx="869760" cy="5126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Check the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ug fi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3" name=""/>
          <p:cNvCxnSpPr>
            <a:stCxn id="80" idx="2"/>
            <a:endCxn id="122" idx="0"/>
          </p:cNvCxnSpPr>
          <p:nvPr/>
        </p:nvCxnSpPr>
        <p:spPr>
          <a:xfrm>
            <a:off x="4878360" y="3862440"/>
            <a:ext cx="360" cy="422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8125920" y="1484280"/>
            <a:ext cx="144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②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cide the team 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charge of I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5" name=""/>
          <p:cNvCxnSpPr>
            <a:stCxn id="122" idx="2"/>
            <a:endCxn id="97" idx="0"/>
          </p:cNvCxnSpPr>
          <p:nvPr/>
        </p:nvCxnSpPr>
        <p:spPr>
          <a:xfrm>
            <a:off x="4878360" y="4797360"/>
            <a:ext cx="2880" cy="432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2337480" y="223848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SVC: Servi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4951440" y="1052640"/>
            <a:ext cx="2233440" cy="276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cc"/>
                </a:solidFill>
                <a:latin typeface="Century Gothic"/>
              </a:rPr>
              <a:t>To : lgtsc@lg-nortel.c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71600" y="1341360"/>
            <a:ext cx="592200" cy="65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0160" y="620640"/>
            <a:ext cx="6337080" cy="460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200160" y="981000"/>
            <a:ext cx="633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1424160" y="620640"/>
            <a:ext cx="0" cy="460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306000" y="66528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Distributo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4446720" y="66528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R &amp; 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344520" y="1052640"/>
            <a:ext cx="93672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R Issu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3902040" y="1052640"/>
            <a:ext cx="93672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R Recei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3902040" y="1484280"/>
            <a:ext cx="93672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H/W Proble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835440" y="1916280"/>
            <a:ext cx="1079640" cy="431640"/>
          </a:xfrm>
          <a:prstGeom prst="flowChartDecision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produ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1782720" y="1954080"/>
            <a:ext cx="936720" cy="362160"/>
          </a:xfrm>
          <a:prstGeom prst="flowChartProcess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entury Gothic"/>
              </a:rPr>
              <a:t>Req. to 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entury Gothic"/>
              </a:rPr>
              <a:t>Faulty H/W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57960" y="2419200"/>
            <a:ext cx="936360" cy="21780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ug Fix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2492280"/>
            <a:ext cx="936720" cy="217440"/>
          </a:xfrm>
          <a:prstGeom prst="flowChartProcess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entury Gothic"/>
              </a:rPr>
              <a:t>Send Faulty H/W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1711440" y="2924280"/>
            <a:ext cx="1079280" cy="431640"/>
          </a:xfrm>
          <a:prstGeom prst="flowChartDecision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entury Gothic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entury Gothic"/>
              </a:rPr>
              <a:t>Fa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1568520" y="3645000"/>
            <a:ext cx="1365120" cy="504720"/>
          </a:xfrm>
          <a:prstGeom prst="flowChart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entury Gothic"/>
              </a:rPr>
              <a:t>Fixed or Replaced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entury Gothic"/>
              </a:rPr>
              <a:t>or Remove faul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entury Gothic"/>
              </a:rPr>
              <a:t>occurred in produc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344520" y="4292640"/>
            <a:ext cx="93672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roblem Fix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344520" y="4795920"/>
            <a:ext cx="93672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Close Confir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4197240" y="4795920"/>
            <a:ext cx="936720" cy="2174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R 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6" name=""/>
          <p:cNvCxnSpPr>
            <a:stCxn id="134" idx="3"/>
            <a:endCxn id="135" idx="1"/>
          </p:cNvCxnSpPr>
          <p:nvPr/>
        </p:nvCxnSpPr>
        <p:spPr>
          <a:xfrm>
            <a:off x="1290600" y="1161720"/>
            <a:ext cx="2602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5" idx="2"/>
            <a:endCxn id="136" idx="0"/>
          </p:cNvCxnSpPr>
          <p:nvPr/>
        </p:nvCxnSpPr>
        <p:spPr>
          <a:xfrm>
            <a:off x="4370040" y="1279080"/>
            <a:ext cx="1080" cy="19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6" idx="2"/>
            <a:endCxn id="137" idx="0"/>
          </p:cNvCxnSpPr>
          <p:nvPr/>
        </p:nvCxnSpPr>
        <p:spPr>
          <a:xfrm>
            <a:off x="4370040" y="1711440"/>
            <a:ext cx="5400" cy="19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1" idx="2"/>
            <a:endCxn id="142" idx="0"/>
          </p:cNvCxnSpPr>
          <p:nvPr/>
        </p:nvCxnSpPr>
        <p:spPr>
          <a:xfrm>
            <a:off x="2250720" y="3365280"/>
            <a:ext cx="1080" cy="27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3" idx="2"/>
            <a:endCxn id="144" idx="0"/>
          </p:cNvCxnSpPr>
          <p:nvPr/>
        </p:nvCxnSpPr>
        <p:spPr>
          <a:xfrm>
            <a:off x="812520" y="451908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4" idx="3"/>
            <a:endCxn id="145" idx="2"/>
          </p:cNvCxnSpPr>
          <p:nvPr/>
        </p:nvCxnSpPr>
        <p:spPr>
          <a:xfrm>
            <a:off x="1290600" y="4905000"/>
            <a:ext cx="2898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37" idx="3"/>
            <a:endCxn id="139" idx="0"/>
          </p:cNvCxnSpPr>
          <p:nvPr/>
        </p:nvCxnSpPr>
        <p:spPr>
          <a:xfrm>
            <a:off x="4924440" y="2131920"/>
            <a:ext cx="1002240" cy="278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4783320" y="1917720"/>
            <a:ext cx="25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3653640" y="1916280"/>
            <a:ext cx="2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2206800" y="3327480"/>
            <a:ext cx="25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5457960" y="2887560"/>
            <a:ext cx="93636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ECO Issu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457960" y="3357720"/>
            <a:ext cx="93636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IB Issu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5457960" y="3860640"/>
            <a:ext cx="936360" cy="21780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nfo. to Dist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59" name=""/>
          <p:cNvCxnSpPr>
            <a:stCxn id="158" idx="2"/>
            <a:endCxn id="143" idx="3"/>
          </p:cNvCxnSpPr>
          <p:nvPr/>
        </p:nvCxnSpPr>
        <p:spPr>
          <a:xfrm rot="5400000">
            <a:off x="3450600" y="1927080"/>
            <a:ext cx="315000" cy="4636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39" idx="2"/>
            <a:endCxn id="156" idx="0"/>
          </p:cNvCxnSpPr>
          <p:nvPr/>
        </p:nvCxnSpPr>
        <p:spPr>
          <a:xfrm>
            <a:off x="5925600" y="2646360"/>
            <a:ext cx="1080" cy="232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6" idx="2"/>
            <a:endCxn id="157" idx="0"/>
          </p:cNvCxnSpPr>
          <p:nvPr/>
        </p:nvCxnSpPr>
        <p:spPr>
          <a:xfrm>
            <a:off x="5925600" y="3114720"/>
            <a:ext cx="1080" cy="234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7" idx="2"/>
            <a:endCxn id="158" idx="0"/>
          </p:cNvCxnSpPr>
          <p:nvPr/>
        </p:nvCxnSpPr>
        <p:spPr>
          <a:xfrm>
            <a:off x="5925600" y="358416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037600" y="66528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3081240" y="628560"/>
            <a:ext cx="0" cy="460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"/>
          <p:cNvCxnSpPr>
            <a:stCxn id="137" idx="1"/>
            <a:endCxn id="138" idx="3"/>
          </p:cNvCxnSpPr>
          <p:nvPr/>
        </p:nvCxnSpPr>
        <p:spPr>
          <a:xfrm flipH="1">
            <a:off x="2728080" y="2131560"/>
            <a:ext cx="109764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38" idx="1"/>
            <a:endCxn id="140" idx="0"/>
          </p:cNvCxnSpPr>
          <p:nvPr/>
        </p:nvCxnSpPr>
        <p:spPr>
          <a:xfrm flipV="1" rot="10800000">
            <a:off x="812160" y="2134800"/>
            <a:ext cx="961200" cy="3484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1782720" y="2492280"/>
            <a:ext cx="936720" cy="217440"/>
          </a:xfrm>
          <a:prstGeom prst="flowChartProcess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entury Gothic"/>
              </a:rPr>
              <a:t>H/W Recei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8" name=""/>
          <p:cNvCxnSpPr>
            <a:stCxn id="140" idx="3"/>
            <a:endCxn id="167" idx="1"/>
          </p:cNvCxnSpPr>
          <p:nvPr/>
        </p:nvCxnSpPr>
        <p:spPr>
          <a:xfrm>
            <a:off x="1290240" y="2601720"/>
            <a:ext cx="4834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7" idx="2"/>
            <a:endCxn id="141" idx="0"/>
          </p:cNvCxnSpPr>
          <p:nvPr/>
        </p:nvCxnSpPr>
        <p:spPr>
          <a:xfrm>
            <a:off x="2250720" y="2719440"/>
            <a:ext cx="1080" cy="19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42" idx="1"/>
            <a:endCxn id="143" idx="0"/>
          </p:cNvCxnSpPr>
          <p:nvPr/>
        </p:nvCxnSpPr>
        <p:spPr>
          <a:xfrm flipV="1" rot="10800000">
            <a:off x="812160" y="3896280"/>
            <a:ext cx="746640" cy="386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3902040" y="2492280"/>
            <a:ext cx="936720" cy="217440"/>
          </a:xfrm>
          <a:prstGeom prst="flowChartProcess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2" name=""/>
          <p:cNvCxnSpPr>
            <a:stCxn id="141" idx="3"/>
            <a:endCxn id="171" idx="1"/>
          </p:cNvCxnSpPr>
          <p:nvPr/>
        </p:nvCxnSpPr>
        <p:spPr>
          <a:xfrm flipV="1">
            <a:off x="2800440" y="2601720"/>
            <a:ext cx="1092960" cy="538560"/>
          </a:xfrm>
          <a:prstGeom prst="bentConnector3">
            <a:avLst>
              <a:gd name="adj1" fmla="val 4998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3830760" y="2924280"/>
            <a:ext cx="1079280" cy="431640"/>
          </a:xfrm>
          <a:prstGeom prst="flowChartDecision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entury Gothic"/>
              </a:rPr>
              <a:t>H/W Bu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4" name=""/>
          <p:cNvCxnSpPr>
            <a:stCxn id="171" idx="2"/>
            <a:endCxn id="173" idx="0"/>
          </p:cNvCxnSpPr>
          <p:nvPr/>
        </p:nvCxnSpPr>
        <p:spPr>
          <a:xfrm>
            <a:off x="4370040" y="2719440"/>
            <a:ext cx="1080" cy="19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3"/>
            <a:endCxn id="139" idx="1"/>
          </p:cNvCxnSpPr>
          <p:nvPr/>
        </p:nvCxnSpPr>
        <p:spPr>
          <a:xfrm flipV="1">
            <a:off x="4919760" y="2528280"/>
            <a:ext cx="529200" cy="611640"/>
          </a:xfrm>
          <a:prstGeom prst="bentConnector3">
            <a:avLst>
              <a:gd name="adj1" fmla="val 4982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783320" y="2914560"/>
            <a:ext cx="25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2655000" y="2914560"/>
            <a:ext cx="2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3684600" y="3645000"/>
            <a:ext cx="1365120" cy="504720"/>
          </a:xfrm>
          <a:prstGeom prst="flowChartProcess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entury Gothic"/>
              </a:rPr>
              <a:t>Fixed &amp; Send 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9" name=""/>
          <p:cNvCxnSpPr>
            <a:stCxn id="173" idx="2"/>
            <a:endCxn id="178" idx="0"/>
          </p:cNvCxnSpPr>
          <p:nvPr/>
        </p:nvCxnSpPr>
        <p:spPr>
          <a:xfrm flipH="1">
            <a:off x="4366440" y="3365280"/>
            <a:ext cx="3960" cy="27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4258800" y="3311640"/>
            <a:ext cx="121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N(Faulty in unit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1" name=""/>
          <p:cNvCxnSpPr>
            <a:stCxn id="178" idx="2"/>
            <a:endCxn id="143" idx="3"/>
          </p:cNvCxnSpPr>
          <p:nvPr/>
        </p:nvCxnSpPr>
        <p:spPr>
          <a:xfrm rot="5400000">
            <a:off x="2706840" y="2742120"/>
            <a:ext cx="243720" cy="3077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104400" y="63360"/>
            <a:ext cx="5825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achment 1 - H/W Problem Handling Proc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71600" y="1341360"/>
            <a:ext cx="644400" cy="717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00160" y="620640"/>
            <a:ext cx="5256000" cy="460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200160" y="981000"/>
            <a:ext cx="525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424160" y="620640"/>
            <a:ext cx="0" cy="460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306000" y="66528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Distributo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2865960" y="665280"/>
            <a:ext cx="9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LG-Norte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344520" y="1052640"/>
            <a:ext cx="93672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R Issu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2887560" y="1052640"/>
            <a:ext cx="93672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R Recei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887560" y="1484280"/>
            <a:ext cx="93672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2820960" y="1916280"/>
            <a:ext cx="1079640" cy="431640"/>
          </a:xfrm>
          <a:prstGeom prst="flowChartDecision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produ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712880" y="2419200"/>
            <a:ext cx="936720" cy="217800"/>
          </a:xfrm>
          <a:prstGeom prst="flowChartProcess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entury Gothic"/>
              </a:rPr>
              <a:t>Trace Req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4160880" y="2419200"/>
            <a:ext cx="936720" cy="21780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roblem Fix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2900520" y="4292640"/>
            <a:ext cx="93636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lu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344520" y="2419200"/>
            <a:ext cx="936720" cy="217800"/>
          </a:xfrm>
          <a:prstGeom prst="flowChartProcess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entury Gothic"/>
              </a:rPr>
              <a:t>Make Tra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44520" y="2887560"/>
            <a:ext cx="936720" cy="254160"/>
          </a:xfrm>
          <a:prstGeom prst="flowChartMulti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entury Gothic"/>
              </a:rPr>
              <a:t>Trace Msg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1639800" y="3068640"/>
            <a:ext cx="1079640" cy="431640"/>
          </a:xfrm>
          <a:prstGeom prst="flowChartDecision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entury Gothic"/>
              </a:rPr>
              <a:t>Corr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entury Gothic"/>
              </a:rPr>
              <a:t>Tra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1712880" y="3789360"/>
            <a:ext cx="93672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Correc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344520" y="4292640"/>
            <a:ext cx="93672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Fix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344520" y="4795920"/>
            <a:ext cx="936720" cy="2174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Close Confir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2900520" y="4795920"/>
            <a:ext cx="936360" cy="2174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R 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3" name=""/>
          <p:cNvCxnSpPr>
            <a:stCxn id="189" idx="3"/>
            <a:endCxn id="190" idx="1"/>
          </p:cNvCxnSpPr>
          <p:nvPr/>
        </p:nvCxnSpPr>
        <p:spPr>
          <a:xfrm>
            <a:off x="1290600" y="1161720"/>
            <a:ext cx="1588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0" idx="2"/>
            <a:endCxn id="191" idx="0"/>
          </p:cNvCxnSpPr>
          <p:nvPr/>
        </p:nvCxnSpPr>
        <p:spPr>
          <a:xfrm>
            <a:off x="3355560" y="1279080"/>
            <a:ext cx="1080" cy="19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1" idx="2"/>
            <a:endCxn id="192" idx="0"/>
          </p:cNvCxnSpPr>
          <p:nvPr/>
        </p:nvCxnSpPr>
        <p:spPr>
          <a:xfrm>
            <a:off x="3355560" y="1711440"/>
            <a:ext cx="5400" cy="19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3" idx="1"/>
            <a:endCxn id="196" idx="3"/>
          </p:cNvCxnSpPr>
          <p:nvPr/>
        </p:nvCxnSpPr>
        <p:spPr>
          <a:xfrm flipH="1">
            <a:off x="1289880" y="2528640"/>
            <a:ext cx="413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6" idx="2"/>
            <a:endCxn id="197" idx="0"/>
          </p:cNvCxnSpPr>
          <p:nvPr/>
        </p:nvCxnSpPr>
        <p:spPr>
          <a:xfrm>
            <a:off x="812520" y="2646360"/>
            <a:ext cx="1080" cy="232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8" idx="0"/>
            <a:endCxn id="193" idx="2"/>
          </p:cNvCxnSpPr>
          <p:nvPr/>
        </p:nvCxnSpPr>
        <p:spPr>
          <a:xfrm flipV="1">
            <a:off x="2179800" y="2645640"/>
            <a:ext cx="2160" cy="413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8" idx="2"/>
            <a:endCxn id="199" idx="0"/>
          </p:cNvCxnSpPr>
          <p:nvPr/>
        </p:nvCxnSpPr>
        <p:spPr>
          <a:xfrm>
            <a:off x="2179800" y="3510000"/>
            <a:ext cx="2160" cy="270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195" idx="1"/>
            <a:endCxn id="200" idx="3"/>
          </p:cNvCxnSpPr>
          <p:nvPr/>
        </p:nvCxnSpPr>
        <p:spPr>
          <a:xfrm flipH="1">
            <a:off x="1289880" y="4401720"/>
            <a:ext cx="1600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0" idx="2"/>
            <a:endCxn id="201" idx="0"/>
          </p:cNvCxnSpPr>
          <p:nvPr/>
        </p:nvCxnSpPr>
        <p:spPr>
          <a:xfrm>
            <a:off x="812520" y="451908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1" idx="3"/>
            <a:endCxn id="202" idx="2"/>
          </p:cNvCxnSpPr>
          <p:nvPr/>
        </p:nvCxnSpPr>
        <p:spPr>
          <a:xfrm>
            <a:off x="1290240" y="4905000"/>
            <a:ext cx="1600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192" idx="3"/>
            <a:endCxn id="194" idx="0"/>
          </p:cNvCxnSpPr>
          <p:nvPr/>
        </p:nvCxnSpPr>
        <p:spPr>
          <a:xfrm>
            <a:off x="3909960" y="2131920"/>
            <a:ext cx="720000" cy="278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192" idx="1"/>
            <a:endCxn id="193" idx="0"/>
          </p:cNvCxnSpPr>
          <p:nvPr/>
        </p:nvCxnSpPr>
        <p:spPr>
          <a:xfrm flipV="1" rot="10800000">
            <a:off x="2180520" y="2131920"/>
            <a:ext cx="631080" cy="278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199" idx="3"/>
            <a:endCxn id="195" idx="0"/>
          </p:cNvCxnSpPr>
          <p:nvPr/>
        </p:nvCxnSpPr>
        <p:spPr>
          <a:xfrm>
            <a:off x="2658600" y="3898440"/>
            <a:ext cx="710280" cy="3848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194" idx="2"/>
            <a:endCxn id="195" idx="0"/>
          </p:cNvCxnSpPr>
          <p:nvPr/>
        </p:nvCxnSpPr>
        <p:spPr>
          <a:xfrm rot="5400000">
            <a:off x="3179880" y="2834280"/>
            <a:ext cx="1637280" cy="1261440"/>
          </a:xfrm>
          <a:prstGeom prst="bentConnector3">
            <a:avLst>
              <a:gd name="adj1" fmla="val 4994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197" idx="2"/>
            <a:endCxn id="198" idx="1"/>
          </p:cNvCxnSpPr>
          <p:nvPr/>
        </p:nvCxnSpPr>
        <p:spPr>
          <a:xfrm flipH="1" rot="16200000">
            <a:off x="1143720" y="2798640"/>
            <a:ext cx="154800" cy="818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3768840" y="1917720"/>
            <a:ext cx="25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639160" y="1917720"/>
            <a:ext cx="2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2146680" y="3467160"/>
            <a:ext cx="25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112840" y="2852640"/>
            <a:ext cx="252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entury Gothic"/>
              </a:rPr>
              <a:t>N (Trace message requested n times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2023920" y="2843280"/>
            <a:ext cx="505080" cy="288720"/>
          </a:xfrm>
          <a:prstGeom prst="ellipse">
            <a:avLst/>
          </a:prstGeom>
          <a:noFill/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02960" y="63360"/>
            <a:ext cx="639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achment 2 - Data Request and Handling Proc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5:37:31Z</dcterms:created>
  <dc:creator>김기현</dc:creator>
  <dc:description/>
  <dc:language>en-US</dc:language>
  <cp:lastModifiedBy>김완경</cp:lastModifiedBy>
  <dcterms:modified xsi:type="dcterms:W3CDTF">2006-11-20T08:37:19Z</dcterms:modified>
  <cp:revision>669</cp:revision>
  <dc:subject/>
  <dc:title>PowerPoint 프레젠테이션</dc:title>
</cp:coreProperties>
</file>